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A21-FA12-4DB2-8F67-3BE2E733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D00-5734-42EB-9D3E-C657911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B76-C604-4665-9B38-CFE2E755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C8A-7A14-4BB3-9C49-F68BE96F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EB2-6BA5-4C01-93A7-6737EBB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8E-8CEE-49CC-853D-D696E40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539-D396-4084-A3B7-24ABC623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864-7DA3-4849-B714-3DC3E58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99E-9E14-424B-8EC5-172559CB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319-5149-4564-BD0D-1F043BC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5B1-6F22-481D-BC15-ADEC5B1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49A-92B3-4D97-A8F1-95F3F0E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4310-62D2-460A-A7E0-34A3D691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Heredity Less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10/30/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Mendel and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1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 To  complete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11/2/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: Practice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:  define homozygous dominant, heterozygous, and homozygous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hybrid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Monohyb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Human Characteristic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 1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:  Discuss how probability determines our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: p 269 #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uma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‘aardpig w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1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Guide 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Cro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to Genetic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7:05:29Z</dcterms:created>
  <dc:creator>Tera Linn</dc:creator>
  <dc:description/>
  <dc:language>en-US</dc:language>
  <cp:lastModifiedBy>Tera Linn</cp:lastModifiedBy>
  <dcterms:modified xsi:type="dcterms:W3CDTF">2009-11-04T18:09:54Z</dcterms:modified>
  <cp:revision>4</cp:revision>
  <dc:subject/>
  <dc:title>Genetics and Heredity Lesson Plans</dc:title>
</cp:coreProperties>
</file>